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4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E69-9CCA-4E35-938A-0679F1C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778-BE3D-4C27-BAC5-A4ECF5F8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F07-A841-4C15-886F-5B4F8536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422-7E1A-4D13-823E-AB4582CC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25D-8C0C-4114-A582-D59000F4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952-D7DC-43FD-9498-05698FA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681-761F-4DA3-89F4-BBAB26D4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910-2955-4C18-BBA1-823379B2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297-30A5-4FAB-8853-3A315C98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47C-E970-43EE-8C2F-6F2BB84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E94-389A-4E68-854B-F79C234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201-5365-4086-8828-B075C68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272-A932-4BB0-965F-4C7515DC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Med%20diet.mp3" TargetMode="External"/><Relationship Id="rId2" Type="http://schemas.openxmlformats.org/officeDocument/2006/relationships/hyperlink" Target="file:///Med%20diet.mp3" TargetMode="External"/><Relationship Id="rId3" Type="http://schemas.openxmlformats.org/officeDocument/2006/relationships/hyperlink" Target="file:///Med%20diet.mp3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using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about key tapas d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say which ones sound interesting or g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isten to a description of food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read an opinion about the differences between English and Spanish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try some 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472428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gamb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2769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patata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248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4149720"/>
            <a:ext cx="63356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ali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3959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2952720" cy="55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en salsa) ali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12536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ve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 básica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ist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umo de l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(en salsa)  bra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92360" y="4149720"/>
            <a:ext cx="65516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boquerones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05360"/>
            <a:ext cx="770400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berenjenas con miel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1798560" cy="1501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804000" y="227664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944720" cy="156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95280" y="2060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804000" y="549360"/>
            <a:ext cx="1943280" cy="145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4572000" y="549360"/>
            <a:ext cx="2016000" cy="132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340000" y="33336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684360" y="260280"/>
            <a:ext cx="107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260280"/>
            <a:ext cx="828036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cuchar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panish die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contains lots of sug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is unheal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contains lots of sug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- is quite heal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The English and Americans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have more heart problem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are health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are less overweight than the Spanis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- eat more v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diterranean diet includes more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dairy product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fruit and ve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cheese and potato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- meat and b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The Mediterranean diet includes more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 past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- cereal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- eg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 - f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5640" y="1989000"/>
            <a:ext cx="4895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Las tapa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58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ShockwaveFlash1"/>
          <p:cNvGraphicFramePr/>
          <p:nvPr/>
        </p:nvGraphicFramePr>
        <p:xfrm>
          <a:off x="1835280" y="981000"/>
          <a:ext cx="6337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6337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566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ShockwaveFlash1"/>
          <p:cNvGraphicFramePr/>
          <p:nvPr/>
        </p:nvGraphicFramePr>
        <p:xfrm>
          <a:off x="1042920" y="765000"/>
          <a:ext cx="63374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633744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54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ShockwaveFlash1"/>
          <p:cNvGraphicFramePr/>
          <p:nvPr/>
        </p:nvGraphicFramePr>
        <p:xfrm>
          <a:off x="1692360" y="981000"/>
          <a:ext cx="61196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611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4724280"/>
            <a:ext cx="720072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vino blanc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2166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chorizo en vino ti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4149720"/>
            <a:ext cx="6121440" cy="1312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El gazpach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 tortilla espa</a:t>
            </a:r>
            <a:r>
              <a:rPr b="0" lang="en-GB" sz="8000" spc="-1" strike="noStrike">
                <a:solidFill>
                  <a:srgbClr val="ff0000"/>
                </a:solidFill>
                <a:latin typeface="Arial"/>
                <a:ea typeface="Arial"/>
              </a:rPr>
              <a:t>ñ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4824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croque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4751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Arial"/>
              </a:rPr>
              <a:t>Las albondig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4149720"/>
            <a:ext cx="6121440" cy="253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99"/>
                </a:solidFill>
                <a:latin typeface="Arial"/>
              </a:rPr>
              <a:t>Los calama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0958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01:59Z</dcterms:created>
  <dc:creator>Owner1</dc:creator>
  <dc:description/>
  <dc:language>en-US</dc:language>
  <cp:lastModifiedBy>Owner1</cp:lastModifiedBy>
  <dcterms:modified xsi:type="dcterms:W3CDTF">2008-11-10T07:59:23Z</dcterms:modified>
  <cp:revision>7</cp:revision>
  <dc:subject/>
  <dc:title>Slide 1</dc:title>
</cp:coreProperties>
</file>